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C99-8C33-4DDD-9CBF-221A6A3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586-2654-4704-98E0-41F52333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750-B0E6-4A03-B63B-CDF61CCF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927-DB05-460C-B8C4-4604860B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5C5-B75A-4B12-913F-D3C3586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5AE-ECD9-4854-A980-A48FCDA6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5D1-F612-44E1-987E-614701F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721-E1EE-4A89-8595-404155A7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A18-9DBD-48D8-B1AF-F0AD5BF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FB6-F7FF-44DD-8805-F35D04A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61E-EFC7-40BA-B7B7-B1B2554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E8C-356E-47F8-A1DC-2FF4B54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r@mrreddy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11C2-AE89-4C62-ABD6-017A863AF0F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835344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nslation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lide a shape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hange a shape some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rection followed by the hands of a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hange a shape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260280"/>
            <a:ext cx="813744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entre of Englargement –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 turn a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point from which a shape is refl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point from which a shape is enlar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 place where things are made b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60280"/>
            <a:ext cx="813744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gruent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ame of the shape after it has been ch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times bigger the shape is after enlar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apes which are exact copies of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60280"/>
            <a:ext cx="81374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Three-quarter turn –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7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.7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6028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ue or Fal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clockwise means to turn in the same direction as the hands on a clo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260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ue or Fal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the line x=2 all the x coordinates equal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60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ue or Fal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the line y=7 all the y coordinates equal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46:17Z</dcterms:created>
  <dc:creator>Bruno Reddy</dc:creator>
  <dc:description/>
  <dc:language>en-US</dc:language>
  <cp:lastModifiedBy>Bruno Reddy</cp:lastModifiedBy>
  <dcterms:modified xsi:type="dcterms:W3CDTF">2006-05-23T19:30:15Z</dcterms:modified>
  <cp:revision>3</cp:revision>
  <dc:subject/>
  <dc:title>1.)  2 x n</dc:title>
</cp:coreProperties>
</file>